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52F3-CEC9-4B5D-B39B-E532EE98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A6E9-CBC2-478B-AEAD-ED397BAA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9D59-8F45-456F-AA6F-912F4527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8B40-CD9F-44B5-9BBB-7DA621F8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1EC3-F76C-4AFE-9A4C-02D9F6ED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CEF3-F1A5-4B60-8F75-6998392C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90B6-D60E-4A14-AD66-89BFD54D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6939-9CCB-4048-BBD4-19107017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35AE-671B-42DE-9385-FC6CD8C9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49A7-93FC-492B-95D5-9A5E2C09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BF06-DAA0-4A10-8D2A-76BEE160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178E-4500-4DF7-8EE5-F1227927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B44F-BF51-4F17-9C32-F9A065243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Van Belle_4e_Box 7.1.jpg"/>
          <p:cNvPicPr/>
          <p:nvPr/>
        </p:nvPicPr>
        <p:blipFill>
          <a:blip r:embed="rId1"/>
          <a:stretch/>
        </p:blipFill>
        <p:spPr>
          <a:xfrm>
            <a:off x="0" y="709560"/>
            <a:ext cx="914400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Van Belle_4e_Box 7.2.jpg"/>
          <p:cNvPicPr/>
          <p:nvPr/>
        </p:nvPicPr>
        <p:blipFill>
          <a:blip r:embed="rId1"/>
          <a:stretch/>
        </p:blipFill>
        <p:spPr>
          <a:xfrm>
            <a:off x="507960" y="0"/>
            <a:ext cx="812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Van Belle_4e_Box 7.4.jpg"/>
          <p:cNvPicPr/>
          <p:nvPr/>
        </p:nvPicPr>
        <p:blipFill>
          <a:blip r:embed="rId1"/>
          <a:stretch/>
        </p:blipFill>
        <p:spPr>
          <a:xfrm>
            <a:off x="0" y="730080"/>
            <a:ext cx="9144000" cy="53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Van Belle_4e_Figure 7.1.jpg"/>
          <p:cNvPicPr/>
          <p:nvPr/>
        </p:nvPicPr>
        <p:blipFill>
          <a:blip r:embed="rId1"/>
          <a:stretch/>
        </p:blipFill>
        <p:spPr>
          <a:xfrm>
            <a:off x="355680" y="0"/>
            <a:ext cx="843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Van Belle_4e_Figure 7.2.jpg"/>
          <p:cNvPicPr/>
          <p:nvPr/>
        </p:nvPicPr>
        <p:blipFill>
          <a:blip r:embed="rId1"/>
          <a:stretch/>
        </p:blipFill>
        <p:spPr>
          <a:xfrm>
            <a:off x="2017800" y="0"/>
            <a:ext cx="510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9:37:28Z</dcterms:created>
  <dc:creator>conversion</dc:creator>
  <dc:description/>
  <dc:language>en-US</dc:language>
  <cp:lastModifiedBy>conversion</cp:lastModifiedBy>
  <dcterms:modified xsi:type="dcterms:W3CDTF">2015-01-14T09:42:57Z</dcterms:modified>
  <cp:revision>1</cp:revision>
  <dc:subject/>
  <dc:title>Slide 1</dc:title>
</cp:coreProperties>
</file>